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639-C7ED-4030-A1A9-EA23806E54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nchronriemen arbeiten nach dem Prinzip der formschlüssigen Kraftübertragung und benötigen daher keine große Vorspann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unnötig hohe Vorspannung vermindert die Lebensdauer des Antriebes, erhöht die Lagerbelastung, den Verschleiß der Zähne und begünstigt Laufgeräus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zu geringe Straffung kann dazu führen, daß die Riemenzähne nicht einwandfrei in die Scheibenverzahnung eingreifen und bei hoher       Belastung sogar übersprin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chronriemen muss gespannt sein, damit er nicht überspringt sobald er sich Ausdehnt durch Wärme u.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ssiert dieses besteht nicht mehr die Möglichkeit einer Synchronitä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Riemen würden anfangen zu gleiten bei Überbeanspruc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üflastme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- Handmeßgerät TRU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kW / 3.000U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enabstand ist in vielen Fällen vorge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Sinnvolle Grenzwerte sind einzuh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bei Synchronscheiben sind die Bordscheiben maßge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i zu große Abstände können Schwingungen ent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r Riemenzähnezahlen nach Hersteller Angab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B 16-1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= Spann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Y= Auflege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 sich im eingriff befindlichen Zäh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rund unvermeidlicher Teilungsfehler können max. nur 12 Zähne als tragend angesehen werden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her wir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uf ganze Zahlen abru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spez.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ach TB 16-20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tragende Kraft ist abhängig von Umwelteinflüsse, Ölig, Warm, Kalt us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ung + Fliehkräfte im Betrieb = weniger Belastung auf den Wellen bzw. La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exakte Berechnung der Wellenbelastung ist für den praktischen Anwendungsfall somit kaum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Errechneten 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trieb im allg. oder über Dimensioniert (Keil oder Synchronriem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teigt die Errechnete Riemenzugkraft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die max.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z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Werte nicht, so muss wieder von Vorne des Ablaufplans begonn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l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ände müssen berücksichtigt werde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federt / nicht Gefed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nrolle Feder belastet Ja / N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ra Ansprechen wegen Ihrem Zahnriemenriss be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kurvenförmige HTD® (High Torque Drive) Verzahnung verbessert die innere Spannungsverteilung erheblich und ermöglicht eine höhere Übertragungsleistung und eine längere Lebensdauer verglichen mit den klassischen Trapezsynchronrie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96F-9558-4048-B0BA-1FCC3E70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CF7-A6B0-4B2D-93EA-030C5D48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21F-A78C-4B5A-8E10-D9BEBCEF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70A-3CB3-40D8-81E7-859D0E35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7CE-D23D-43E6-89D0-E7113FFF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701A-C838-4319-97A6-3FA542F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311B-A350-4E4E-B03D-5991E7E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FF3-FEBE-4CB3-B73B-48ADC7AF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5D35-B217-4FA6-AE69-661E248F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ECBF-D5B8-4DD1-96ED-5E49FA85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34ED-3922-438B-AD80-16C0930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F5F-C3E3-481B-AFEA-052732E5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851D-C6B3-4781-B107-15DCAAE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4652-569E-4D85-ACBF-4B67E29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1245-5F48-4B82-A319-16307D8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D555-9CE5-4029-995A-7A4C0217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B7B-9C8F-472C-9E9A-7E4D9470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630-6AD6-4FE2-A025-1DB88FA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CE5-D69E-4DDF-B9AD-D428774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33D-63CF-4593-9206-7D63EA5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3D9-10F6-4243-805C-12AC744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2BA-88D7-4B5D-A056-3BCB03E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6EE-A893-437E-B8B7-E536876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B1B-C35A-492D-B71A-B37D004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570-5C11-4134-BDCD-5D51F0A71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EFCF-9E09-47A2-93B6-18924C930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tlantadrives.com/" TargetMode="External"/><Relationship Id="rId3" Type="http://schemas.openxmlformats.org/officeDocument/2006/relationships/hyperlink" Target="http://www.bs-wiki.de/mediawiki/index.php/Riementriebe_formschl&#252;ssig" TargetMode="External"/><Relationship Id="rId4" Type="http://schemas.openxmlformats.org/officeDocument/2006/relationships/hyperlink" Target="http://www.bs-wiki.de/mediawiki/index.php/Riementriebe" TargetMode="External"/><Relationship Id="rId5" Type="http://schemas.openxmlformats.org/officeDocument/2006/relationships/hyperlink" Target="http://www.bs-wiki.de/mediawiki/index.php/Zahnrieme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Formschlüssige Riementrieb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5897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wicklung und Konstruk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exander Bold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608200" y="2940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753080" cy="28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Bauformen von Synchronriem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403848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einfacher Synchronriementrieb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= 1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einfacher Synchronriementrie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≠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81480" cy="23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B09-CEF7-4EAD-B1FF-385985D8E9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Aufbau der Synchronriemenscheib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3106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rkstoff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sseisen, Stahlguss, Stahl, Aluminiumlegierungen oder Kunststoff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Bordscheiben sind in der Regel aus verzinktem Stah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Auswahl des Werkstoffes ist abhängig von den Einsatzbedingunge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980-9422-45DF-8EE7-966844614D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Riemenspann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138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n Synchronriemen benötigt keine hohe Vorspannu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Vorspannung kann über die Verstellung des Achsabstandes eingestel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über eine Spannro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mit de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messgerät TRUMME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50840" cy="21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960720" cy="1879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15955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E96-DCA7-432A-8166-A9C84ECE24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Flach- und Keilriemen (kraftschlüssig)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136000" cy="429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9440" y="414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9440" y="465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944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D0-1F22-4CC8-923B-2D6399A5C6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Zahnrad- und Kett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064720" cy="435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0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080" y="47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944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D5E-17BD-46B5-B63D-0CF88044ED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56000" y="-360"/>
            <a:ext cx="478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7f4c"/>
                </a:solidFill>
                <a:latin typeface="Tahoma"/>
              </a:rPr>
              <a:t>Antriebs Wahl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91120" cy="6381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06028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auf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 S.5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 S.2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9D3-4E19-4BA9-9E8D-0EA2170216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ung des Riemenprofils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TB 16-1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1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03760" y="1268280"/>
            <a:ext cx="35910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86E-E7FA-463F-90A1-445CC399E0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r Scheibenzähnezah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4076640"/>
                <a:ext cx="2592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91652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A4A-FE49-4EFE-9C74-9B0B2737BA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s vorläuf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´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–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47640" y="5445000"/>
                <a:ext cx="5834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2888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133-F518-4CF4-ADA7-B73F1BE914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Tahoma"/>
              </a:rPr>
              <a:t>Ermittlung der Riemenzähnezahl,  Riemenlänge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4535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dk; ddg; Ld´; zr´; Ld;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 – 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09-2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TB 16-19d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98816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EDC-3F43-4421-9EB2-EC74DB9866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Inhaltsverzeichni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ktion und Wirk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staltungsgrundsät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uar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gleich zu anderen Antrieb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echn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FE7-A270-4EEE-A1F4-D4B60A6642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s endgült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; x;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0-2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0380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6AF-FB43-44B3-9F14-7DE14EF654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r erforderlichen Riemenbreite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89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; Psp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 TB 16-20-b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–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601-603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388040" y="4941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= Riemen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EDE-9329-4850-861C-B505CA0D44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827f4c"/>
                </a:solidFill>
                <a:latin typeface="Tahoma"/>
              </a:rPr>
              <a:t>Kontrolle von:  v, fB, Ft, Fw0</a:t>
            </a:r>
            <a:r>
              <a:rPr b="0" lang="de-DE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683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1-2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880600" y="3933720"/>
            <a:ext cx="2408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= Riemengeschwind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B= Biegefrequ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t= Umfangsk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w0= Überschläg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ellenbelas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01-9DB5-46C1-ABAB-F93A234188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Werte zulässig?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Bsp.: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Synchronriemen 10-T5-5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ynchronriemen 10-T5-55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b=10 mm Breite, T5 Riemenprofil mit p = 5 mm Teilung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990 mm Richtlänge Ld = Bestellläng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b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EB2-3DA8-4B45-95DE-BA245EDBE3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Lehrbuch und Tabellenbuch; Vieweg Verlag, 19. Auflage, 2009, ISBN 978-3-8348-0689-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Formelsammlung; Vieweg Verlag, 9. Auflage, 2008, ISBN 978-3-8348-0534-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abellenbuch Metall; Europa Lehrmittel Verlag, 44. Auflage, 2008, ISBN 978-3-8085-1724-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http://www.atlantadrive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3"/>
              </a:rPr>
              <a:t>http://www.bs-wiki.de/mediawiki/index.php/Riementriebe_formschl%C3%BCssi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4"/>
              </a:rPr>
              <a:t>http://www.bs-wiki.de/mediawiki/index.php/Riementrieb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5"/>
              </a:rPr>
              <a:t>http://www.bs-wiki.de/mediawiki/index.php/Zahnrie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FD2-0403-4B38-8B06-060581323D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Einleit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chlüssige Riementriebe, besser bekannt al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hn- bzw. Synchronriementrieb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egegnet man häufig im Beruf und im Alltag bei Werkzeugmaschinen, Autos, Fahrräd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iehe dazu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Red Al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w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unterschiedliche Bauarten und Größ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beanspruchung kann zu schwerwiegenden Folgen führ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p.: Zahnriemenriss beim Verbrennungsmo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0C8-0B77-472B-ADF3-BD50F38D44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Ziele: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s versteht man unter formschlüssigen Riementrie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orteile / Nachte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wendung / Einsatzgebiet für den Synchronriem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hl des richtigen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Auswah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erechn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ensionierung des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803-1E83-4870-BBC3-70722F6901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Synchrone Üb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hezu wartungsfr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chlüssige Drehmomentübertra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riementriebe finden Verwendu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Feinwerkantrieben, Haushaltsmaschinen,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kzeugmaschinen, Textilmaschinen oder schw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aschi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B45-DF40-46D8-9FDE-E56CC45B0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werkstoff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gelemente aus Stahl oder Glasfas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iemenkörper aus Gumm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.B. Neopren oder Elastom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in Riemenkörper eingebund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zum dauerhaften Schutz von Polyamidgewebe umschlos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C6D-2E8E-4F29-8C43-466824D66A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644832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445-9080-43F4-954B-0EB8B5D401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Spannungsverteilung im Synchronriem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280" y="429228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) Trapez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) Halbrundprofil- (HTD) 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968720" cy="20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45E-EEDE-4BEE-8C45-406163E6AD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br>
              <a:rPr sz="4400"/>
            </a:br>
            <a:r>
              <a:rPr b="1" lang="en-US" sz="3600" spc="-1" strike="noStrike">
                <a:solidFill>
                  <a:srgbClr val="0a29c4"/>
                </a:solidFill>
                <a:latin typeface="Tahoma"/>
              </a:rPr>
              <a:t>Metrische T-Zahnriemen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67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- Zah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 T5 / T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mm /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sp.: 10-T5-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änge: 55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: 5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ite: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51847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EE-6A91-4D4E-9B3A-D940B62549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06:45Z</dcterms:created>
  <dc:creator>Boldt</dc:creator>
  <dc:description/>
  <dc:language>en-US</dc:language>
  <cp:lastModifiedBy>Boldt</cp:lastModifiedBy>
  <dcterms:modified xsi:type="dcterms:W3CDTF">2010-11-26T13:58:41Z</dcterms:modified>
  <cp:revision>182</cp:revision>
  <dc:subject/>
  <dc:title>Formschlüssige Riementriebe</dc:title>
</cp:coreProperties>
</file>